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669-E686-4DCB-9DF4-4FD8B97A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DA93-25A1-431E-9159-3E797765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03637-678B-4BF3-BE04-398C3A6D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6EAF1A-ED8B-4E1C-9CA0-571D3D49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63B9C-2FD1-4E0B-AE37-4B161948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E6F08-A1B7-485A-BA01-C8A976F8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7F40F-84C0-41D7-A0E3-F844A4BA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9D5FE7-EC34-4676-9E6B-67925E90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57C60-04B8-439C-A43B-D8BED8B0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8D135-77CB-45EE-A5EB-E0BD8B3B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9F2198-849D-4A30-801C-BD8A094A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EDE2E-5DE3-433D-9F5B-31D9FD21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B03-D9F0-4A97-86F0-A44C49A6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C48B2-0FB5-46BD-9855-18CEC478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4A4F40-26A3-4A5D-B54E-4B8DD9B9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77358-307B-461F-9102-98A45F64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0AD17-9555-4916-9074-023F8C06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7D4AA-3E04-4768-A716-ACD45DD6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62B930-E132-498D-9FAD-68E97DBA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37A98-4BEE-4027-B246-B3753C02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68F1DC-0C5F-42F3-8CD4-E583BBAF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966C6-EB36-4B15-A836-76BFF485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0C8F6-94FF-44BC-9D59-4237EE2F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9769-6FE0-4127-99FD-8C28DB0E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6B7BE-75C4-4D63-9A89-5834BE41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C7921-460B-467A-92C3-F38D807A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68C7F-3858-4BA3-AF8F-DD5BFF88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E2433-3BF1-4DA1-87F9-B0CCC250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2E848-7061-47BE-B8A2-551F899C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A2E6D-892D-4B0B-9A30-527FBA8B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120F0-818C-4503-8829-45DE4449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9AA87-DBDB-4583-8C58-51316B9E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800F5-ED43-4093-85DE-FE5357CB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EEE3F-A188-48DA-A721-C6F453CC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C108-0280-42B2-BAFF-320A2FE8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694C1-2DD3-43C6-BDA7-BE5E170C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F7C08-BBC4-45AD-94AE-38323DA0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A7FE3-EB81-4A9A-ADE2-76194B50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A5FAE-C57E-4B31-8D71-20C6D0CA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A9E505-1FC5-4C95-B64F-E52EBE11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E016F7-66E0-4CB8-A69D-CDEB5069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7ACB8-9B3A-4F1D-B3C4-130B0F6A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CEF61A-A23C-4CB0-84AB-EF667E1C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054EE-7F87-485F-9321-733CFF75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371B8-A486-49F3-A7D7-9CBA8BD3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EE12-39BC-4531-8AE6-8D250B83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6DC38-F466-464D-9A04-0C48C2A6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FE996A-2092-4083-9C18-9FC60345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06F9D-DDBF-4392-9ECD-2BC7314F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2AB6E0-EA00-4178-AF1D-9501E290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58C88F-6A0F-40FB-B5C4-14BBB863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98DEFD-2F26-4843-91F7-2EFACD68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31A31-70F5-4EF9-B5B6-0E5C2DFA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AE867-D8A2-4CEB-9FAC-C8CD80E4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B8D70-F503-48C9-B490-EDFA6455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F1990-6679-4F56-8A8B-CEC512FE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7592-836D-4C48-AE81-2C77F3C4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D032A-202F-4327-8DBF-7F018E80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89D69-73A7-4B76-93A0-7781A516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A2EA6-6AD4-4012-B381-E1755AE4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3B020-1D20-4AF8-AEF6-88A69C3D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D9B56-52AC-4568-A77E-A6BB0512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81E3D3-D2C9-4439-9122-96684954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68894-76C0-40E1-8628-CDF49BED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6BC8-56DF-4446-ACA3-841B3AE0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8B9D-C3CE-497A-9A3E-571A0801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5B67-B616-4B1A-91BD-3A695F94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E8A3-A785-4084-9846-A4CB173D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557-879E-4423-BABB-EBE5B6F2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FE8E-46FB-4875-8BBD-3BB5386E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33BB-6B1B-4758-9809-1DA77F15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E757-B8CE-4EDE-9E0C-32858951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688D-9524-4E17-BC42-D18787B7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C199-E62B-4D8F-8D49-F03ACF0A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AF63F-BC7A-4338-B3B0-846D3E0EB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679E7-859E-4E24-AB9E-17275649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F7F0-60C9-4346-ACF4-7945CB41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0079A-8AA7-419F-8D17-4F7C099D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8BC6-1AFE-4FB9-A009-36681E0B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7F6E-DE44-406D-A06E-15B35FBF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745F8-2657-4491-9E20-73EA9BC7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65F8B-6730-4221-8FD6-F38F3512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F6DF-C701-4F15-9023-B5955877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8307E-2106-4697-AB35-AE492CC1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3FA9C-063B-4442-99D8-03759543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4A19F-C735-4455-B632-303F70A9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90E15-60CC-4A3B-AA06-44942ABA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7230-83F5-4A8A-9DA3-B10CF07D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4B10-E66F-4073-B126-A9FBC657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A582D-048E-4D22-AC86-1A781265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AD9-D3D5-4B7F-8205-03EC20D6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92C3A-12F7-44DD-B745-5D36DDE1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94747-2F5E-46BC-A5B5-E52EFE9D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B6E78-103C-44E4-8489-3649C2BA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E0543-64CD-4F88-9B3E-3B108D59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E965A-1EE2-4AAF-BBA6-75D0F691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EF71B-8471-4C73-9D16-EABDD3A3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210FC-CA41-4905-B3BA-D057A6EB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72B6C-D8FD-4F72-8B3C-EC8F9E74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404E8-FB30-4BCB-BB3B-B80687F2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EC050-5A91-4F74-89DB-F52E1B7A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C76-7FBB-4AE4-A14F-825B33E0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B95C6-2B77-44D7-84F9-28211543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253D9-F6AD-4696-BE75-5C0DCE4A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9C166-DA73-46FD-A2E7-68D4B758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37BE6-236A-4212-A8A6-40CA0E55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B54F6-301E-4A79-B437-B7035351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8F4F2-8B0B-4E40-88F6-9B890716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A0380-495C-4616-AB81-34AE844E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9B820-C78E-4FAD-8EBB-2B6C968F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1AD5F-8FA4-4183-8CED-B839777E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17A7E-B78B-4FB9-9E88-FBC0FB94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9C6A-95B3-4572-9E6E-A899DEA8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3F623-9E23-4CBE-B91A-6DA61C18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AEA5F-FAF0-4471-BF80-7ABBD2A0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F5291-B990-4F3B-99A1-5718E13A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560AC-2736-47A1-B92E-9D44FFD0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91DD6-8A52-431D-85F1-41832182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A7C8A-5AA5-41B2-AC67-B678668D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A8618-92EC-4F86-92DC-5EBD30C3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7BC3E-5688-49EF-9872-02CDFF51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81EA7-F409-47B3-9672-62F71470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82927-B921-497C-8A9C-90C03776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5EC-7161-4D2E-9C2C-1396E6F3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E8B53-9C34-4EF5-B09C-FB152650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1B46C-E38D-4C48-9E47-8F604ACD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16F6A-C4B1-442A-8EC3-290BFE5F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6D340-3102-435D-9251-614C3D22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3AA3B-B971-4E80-A073-1AF653DB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05300-AD81-4658-962C-756EBC73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C6310-92C8-499E-A130-8CE67AE0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460FA-D4F6-40CD-84E4-9381CC3D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4F456-B31D-4125-86EB-7FA95BE9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C8B7C-26F8-4EA0-B7D7-90FFF5D7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121-8EA5-4199-B204-5E82FB8E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A2A96-CEE4-442C-8E2B-DD34F3D1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4C25D-0517-4B9E-9689-5E41AA22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8BCB9-DEC7-4E96-8770-9D8942A7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50A92-0F80-4FB7-AB2E-08057311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7CBF6-FBEC-4EAA-B587-4AC33F64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EF850-146A-4E08-AE7A-D1C03A6D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288F2-ADCC-4C12-B6B3-0B469A0D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695E0-ABEB-4E1E-81F5-692A47E9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7263E-E3E6-401C-8166-B5A69010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8C6A1-2176-4379-A0F4-7F8FC827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F8C8-18D7-4E85-A915-3908E974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29DEF-C2DF-45CD-8864-D0AB2C90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D2A65-59C4-4891-A676-3B1359F0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76009-7851-4603-AAFB-097F8002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E7621-44AC-4E4C-8384-4A5AC011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E2763-D2EA-49CB-83FA-FCDACA5A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62F08-312A-4DE3-BAFB-D48288B5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2BD10-0B53-4EAE-ADB4-3BEDF476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2AACF-9D29-4D7D-826A-E92B1F48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0A11E-AB53-4EB0-A94E-BF06E930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41AB7-D8DB-4DBB-88C4-E490C205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C362-B7D2-4023-834C-10BBE88C813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162C-A456-4EE9-9825-D7A5DFB85FD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3298-EE17-4D58-B441-6738BF53834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8232-1A5C-4E97-87F4-4A8540DB8D2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76A1-8B38-47B8-938F-DB834D6CAEA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DF71-CD53-45AC-862C-6B5DF7E9883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2601-4252-4F63-B38C-B3E8EFF4688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E1FD-6A1B-418B-B070-D4F4DEB986F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9333-4189-4749-AFAF-79F3492DFE0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AD9D-DD02-4978-927A-4379F8B00C7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85EA-F25D-4884-B73B-F7AB87B9C1D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CD50-9FAA-43EC-A42B-BAE78289018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30BC-63A6-41EA-A478-02ED48D3262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Заголовок 1"/>
          <p:cNvSpPr/>
          <p:nvPr/>
        </p:nvSpPr>
        <p:spPr>
          <a:xfrm>
            <a:off x="179280" y="189000"/>
            <a:ext cx="8785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Georgia"/>
              </a:rPr>
              <a:t>Почвы. Охрана почв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" descr="http://purichvalera.com/wp-content/uploads/2011/09/obrabotka-pochvyi.jpg"/>
          <p:cNvPicPr/>
          <p:nvPr/>
        </p:nvPicPr>
        <p:blipFill>
          <a:blip r:embed="rId1"/>
          <a:stretch/>
        </p:blipFill>
        <p:spPr>
          <a:xfrm>
            <a:off x="1042920" y="1341360"/>
            <a:ext cx="6842160" cy="532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Орудия труда, которыми наши предки обрабатывали почву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5" name="Picture 4" descr="C:\Documents and Settings\Катюська\Мои документы\Мои рисунки\2011-12-05, окр  мир\окр  мир 002.jpg"/>
          <p:cNvPicPr/>
          <p:nvPr/>
        </p:nvPicPr>
        <p:blipFill>
          <a:blip r:embed="rId1"/>
          <a:stretch/>
        </p:blipFill>
        <p:spPr>
          <a:xfrm>
            <a:off x="4572000" y="3645000"/>
            <a:ext cx="4313160" cy="22986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76" name="TextBox 11"/>
          <p:cNvSpPr/>
          <p:nvPr/>
        </p:nvSpPr>
        <p:spPr>
          <a:xfrm>
            <a:off x="6013800" y="5805360"/>
            <a:ext cx="15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ы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4" descr="C:\Documents and Settings\Катюська\Мои документы\Мои рисунки\2011-12-05, окр  мир\окр  мир 002.jpg"/>
          <p:cNvPicPr/>
          <p:nvPr/>
        </p:nvPicPr>
        <p:blipFill>
          <a:blip r:embed="rId2"/>
          <a:stretch/>
        </p:blipFill>
        <p:spPr>
          <a:xfrm>
            <a:off x="250920" y="1628640"/>
            <a:ext cx="4511520" cy="25210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78" name="TextBox 13"/>
          <p:cNvSpPr/>
          <p:nvPr/>
        </p:nvSpPr>
        <p:spPr>
          <a:xfrm>
            <a:off x="531720" y="4076640"/>
            <a:ext cx="348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на-суков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удия труда, которыми наши предки обрабатывали почву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0" name="Picture 2" descr="C:\Documents and Settings\Катюська\Мои документы\Мои рисунки\2011-12-05, окр  мир\окр  мир 003.jpg"/>
          <p:cNvPicPr/>
          <p:nvPr/>
        </p:nvPicPr>
        <p:blipFill>
          <a:blip r:embed="rId1"/>
          <a:stretch/>
        </p:blipFill>
        <p:spPr>
          <a:xfrm>
            <a:off x="3419640" y="1773360"/>
            <a:ext cx="5589360" cy="33843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81" name="TextBox 7"/>
          <p:cNvSpPr/>
          <p:nvPr/>
        </p:nvSpPr>
        <p:spPr>
          <a:xfrm>
            <a:off x="5718240" y="5157720"/>
            <a:ext cx="9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2" descr="C:\Documents and Settings\Катюська\Мои документы\Мои рисунки\2011-12-05, окр  мир\окр  мир 003.jpg"/>
          <p:cNvPicPr/>
          <p:nvPr/>
        </p:nvPicPr>
        <p:blipFill>
          <a:blip r:embed="rId2"/>
          <a:stretch/>
        </p:blipFill>
        <p:spPr>
          <a:xfrm>
            <a:off x="324000" y="1628640"/>
            <a:ext cx="2922480" cy="4176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83" name="TextBox 9"/>
          <p:cNvSpPr/>
          <p:nvPr/>
        </p:nvSpPr>
        <p:spPr>
          <a:xfrm>
            <a:off x="900000" y="58053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б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может разрушать почву?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5" name="TextBox 5"/>
          <p:cNvSpPr/>
          <p:nvPr/>
        </p:nvSpPr>
        <p:spPr>
          <a:xfrm>
            <a:off x="324000" y="126828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вневые дожди губят будущий урожай, смывают плодородный слой почвы. Сильные ветры выдувают мельчайшие частички почвы. Суховеи иссушают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6"/>
          <p:cNvSpPr/>
          <p:nvPr/>
        </p:nvSpPr>
        <p:spPr>
          <a:xfrm>
            <a:off x="1713600" y="692280"/>
            <a:ext cx="602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е природны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2" descr="http://priroda-yavlenie.ru/images/x_8d4396ce.jpg"/>
          <p:cNvPicPr/>
          <p:nvPr/>
        </p:nvPicPr>
        <p:blipFill>
          <a:blip r:embed="rId1"/>
          <a:srcRect l="0" t="0" r="72" b="0"/>
          <a:stretch/>
        </p:blipFill>
        <p:spPr>
          <a:xfrm>
            <a:off x="1835280" y="3284640"/>
            <a:ext cx="565308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Box 6"/>
          <p:cNvSpPr/>
          <p:nvPr/>
        </p:nvSpPr>
        <p:spPr>
          <a:xfrm>
            <a:off x="1855440" y="189000"/>
            <a:ext cx="557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7"/>
          <p:cNvSpPr/>
          <p:nvPr/>
        </p:nvSpPr>
        <p:spPr>
          <a:xfrm>
            <a:off x="179280" y="90792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орение промышленными и бытовыми от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http://gkh.com.ua/upload/iblock/d85/szpac.jpg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" descr="C:\Documents and Settings\Катюська\Мои документы\Мои рисунки\2011-12-05, окр  мир\окр  мир 009.jpg"/>
          <p:cNvPicPr/>
          <p:nvPr/>
        </p:nvPicPr>
        <p:blipFill>
          <a:blip r:embed="rId1"/>
          <a:stretch/>
        </p:blipFill>
        <p:spPr>
          <a:xfrm>
            <a:off x="971640" y="0"/>
            <a:ext cx="7121520" cy="42926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92" name="TextBox 7"/>
          <p:cNvSpPr/>
          <p:nvPr/>
        </p:nvSpPr>
        <p:spPr>
          <a:xfrm>
            <a:off x="0" y="430380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ая обработка почвы, неграмотный уход за растениями,  использование больш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а минеральных веществ (удобрени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охимикатов для борьбы с вредителями и сорня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Опыт наших пред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TextBox 3"/>
          <p:cNvSpPr/>
          <p:nvPr/>
        </p:nvSpPr>
        <p:spPr>
          <a:xfrm>
            <a:off x="179280" y="1341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сить мусор, плюнуть на землю </a:t>
            </a:r>
            <a:r>
              <a:rPr b="1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4"/>
          <p:cNvSpPr/>
          <p:nvPr/>
        </p:nvSpPr>
        <p:spPr>
          <a:xfrm>
            <a:off x="1068480" y="1989000"/>
            <a:ext cx="73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вы делали на ровной поверх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5"/>
          <p:cNvSpPr/>
          <p:nvPr/>
        </p:nvSpPr>
        <p:spPr>
          <a:xfrm flipH="1">
            <a:off x="179280" y="2637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ы холмов – для  многолетних т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6"/>
          <p:cNvSpPr/>
          <p:nvPr/>
        </p:nvSpPr>
        <p:spPr>
          <a:xfrm>
            <a:off x="971640" y="3284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ые отходы,  растительные ост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ывали в компостные ку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8"/>
          <p:cNvSpPr/>
          <p:nvPr/>
        </p:nvSpPr>
        <p:spPr>
          <a:xfrm>
            <a:off x="385560" y="4365720"/>
            <a:ext cx="837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ли пт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ли свойства не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й для борьбы с вре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0000"/>
                </a:solidFill>
                <a:latin typeface="Georgia"/>
              </a:rPr>
              <a:t>Опыт наших предков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TextBox 4"/>
          <p:cNvSpPr/>
          <p:nvPr/>
        </p:nvSpPr>
        <p:spPr>
          <a:xfrm>
            <a:off x="347040" y="1484280"/>
            <a:ext cx="72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лись приметить «гнилые угл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5"/>
          <p:cNvSpPr/>
          <p:nvPr/>
        </p:nvSpPr>
        <p:spPr>
          <a:xfrm>
            <a:off x="404640" y="2133720"/>
            <a:ext cx="873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защиты от сильных ветров сажали дере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6"/>
          <p:cNvSpPr/>
          <p:nvPr/>
        </p:nvSpPr>
        <p:spPr>
          <a:xfrm>
            <a:off x="272880" y="3213000"/>
            <a:ext cx="782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для задержания снежного пок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ли щи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8"/>
          <p:cNvSpPr/>
          <p:nvPr/>
        </p:nvSpPr>
        <p:spPr>
          <a:xfrm>
            <a:off x="702360" y="4365720"/>
            <a:ext cx="59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или на поля золу и нав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6" name="Picture 2" descr="https://ds04.infourok.ru/uploads/ex/03ba/00158789-34d7f232/hello_html_796e18cd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2" descr="C:\Documents and Settings\Катюська\Мои документы\Мои рисунки\2011-12-05, окр  мир\окр  мир 004.jpg"/>
          <p:cNvPicPr/>
          <p:nvPr/>
        </p:nvPicPr>
        <p:blipFill>
          <a:blip r:embed="rId1"/>
          <a:stretch/>
        </p:blipFill>
        <p:spPr>
          <a:xfrm>
            <a:off x="971640" y="1197000"/>
            <a:ext cx="6913440" cy="5481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59" name="TextBox 5"/>
          <p:cNvSpPr/>
          <p:nvPr/>
        </p:nvSpPr>
        <p:spPr>
          <a:xfrm>
            <a:off x="243000" y="189000"/>
            <a:ext cx="857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, что вы знае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битателях почв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истая</a:t>
            </a: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1" name="Picture 6" descr="C:\Users\79995\Desktop\big-57cac599ff9367028602ad13-57e2abe09877f-1bu5av0.jpg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62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916360" y="260280"/>
            <a:ext cx="35287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есчаная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3" name="Picture 7" descr="C:\Users\79995\Desktop\osobenosti-pochvu-pesok.jpg"/>
          <p:cNvPicPr/>
          <p:nvPr/>
        </p:nvPicPr>
        <p:blipFill>
          <a:blip r:embed="rId1"/>
          <a:stretch/>
        </p:blipFill>
        <p:spPr>
          <a:xfrm>
            <a:off x="-181080" y="1268280"/>
            <a:ext cx="9525240" cy="4762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276720" y="-360"/>
            <a:ext cx="273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Суха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5" name="Picture 7" descr="C:\Users\79995\Desktop\1582092037_18-p-treshchini-v-pustine-29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605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5040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Глиниста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Picture 7" descr="C:\Users\79995\Desktop\kachestvo-pochvy-na-dache3-1.jpg"/>
          <p:cNvPicPr/>
          <p:nvPr/>
        </p:nvPicPr>
        <p:blipFill>
          <a:blip r:embed="rId1"/>
          <a:stretch/>
        </p:blipFill>
        <p:spPr>
          <a:xfrm>
            <a:off x="900000" y="1160640"/>
            <a:ext cx="7596360" cy="569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"/>
          <p:cNvSpPr/>
          <p:nvPr/>
        </p:nvSpPr>
        <p:spPr>
          <a:xfrm>
            <a:off x="1979640" y="0"/>
            <a:ext cx="504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Чернозё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5" descr="C:\Users\79995\Desktop\i.jpg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1" name="Picture 6" descr="Profili pothv"/>
          <p:cNvPicPr/>
          <p:nvPr/>
        </p:nvPicPr>
        <p:blipFill>
          <a:blip r:embed="rId1"/>
          <a:stretch/>
        </p:blipFill>
        <p:spPr>
          <a:xfrm>
            <a:off x="0" y="-325440"/>
            <a:ext cx="9144000" cy="7183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6" descr="120103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2:29:18Z</dcterms:created>
  <dc:creator>DNA7 X86</dc:creator>
  <dc:description/>
  <dc:language>en-US</dc:language>
  <cp:lastModifiedBy>79995678691</cp:lastModifiedBy>
  <dcterms:modified xsi:type="dcterms:W3CDTF">2020-12-20T10:16:30Z</dcterms:modified>
  <cp:revision>1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210000000000010243100207f6000400038000</vt:lpwstr>
  </property>
</Properties>
</file>